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FF1-7C31-48C0-86D0-8A6C73E0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F596-171F-4355-8303-A4B201DAD4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4EBA-102E-42DF-B496-C6DCDD376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1102-1218-4CBF-806C-0D3A6A3E27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514E-22D8-447B-AAF6-14B0C0C159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F332-1BF5-4F3A-842E-0CFEEB196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853-405B-4F51-93C0-74CD2510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7CC-F34B-4800-9C3D-47B8F5C0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E7C-0843-440D-828E-D0E9409F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B86-D5E4-4239-BDA6-9A8A101E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C836-9449-444F-828F-84EDE910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D656-DEE0-4144-8225-2286394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0920-2C83-4B0E-B944-518097B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52C7-0291-4914-BBB4-BE98B348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9AA-489D-4A83-AD76-D3DDDC6C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30A5-A123-47D4-BE42-3D3E748A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0D00-BC4F-408F-BB33-AE0477A7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E4D-B1D0-4759-BDA9-21F4F202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7EA-9AB3-4EF6-AF71-D955BEB6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578C-B876-44A7-9BF6-CA9B17B0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4AD-8238-411C-A7A9-B97F6DCD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0430-0214-45B0-ABCE-221786BE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EC50-B578-43E0-9C99-01A34DE8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AED-9EEA-4330-AD0B-15B936B0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BE8-B6BC-4E5D-A1C2-254E834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0F7-8059-44BB-B54E-1884233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6E3-577F-4CD9-812D-D747FC80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9AF-80CD-4ED2-B98D-2E69D3B5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1BD-71CA-4319-8F41-8F2ABE6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2D42-ACB1-4182-9C24-6607A98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582D-A8ED-4C78-B821-05DCDC5E8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DE0-DE67-4083-8785-3E86752614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titutional Convention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fundamental difference between the Virginia and New Jersey Plan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556000" y="2971800"/>
            <a:ext cx="403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In the House of Representatives, the number of representatives would be based upon 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971800" y="35053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In the Senate, the number of representatives would be 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5912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49784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Define Bicameral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3184560" cy="30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was President of the Constitutional Conven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1219320" y="3021120"/>
            <a:ext cx="7132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3T12:58:10Z</dcterms:modified>
  <cp:revision>126</cp:revision>
  <dc:subject/>
  <dc:title>D/O: TO EXPLAIN AND IDENTIFY PROBLEMS OF ECONOMICS</dc:title>
</cp:coreProperties>
</file>